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\\dz103\完全共享\图片3.png"/>
          <p:cNvPicPr/>
          <p:nvPr/>
        </p:nvPicPr>
        <p:blipFill>
          <a:blip r:embed="rId2"/>
          <a:stretch/>
        </p:blipFill>
        <p:spPr>
          <a:xfrm>
            <a:off x="817560" y="3232080"/>
            <a:ext cx="4154400" cy="1279440"/>
          </a:xfrm>
          <a:prstGeom prst="rect">
            <a:avLst/>
          </a:prstGeom>
          <a:ln w="0">
            <a:noFill/>
          </a:ln>
        </p:spPr>
      </p:pic>
      <p:sp>
        <p:nvSpPr>
          <p:cNvPr id="73" name="副标题 2"/>
          <p:cNvSpPr/>
          <p:nvPr/>
        </p:nvSpPr>
        <p:spPr>
          <a:xfrm>
            <a:off x="1025640" y="4024440"/>
            <a:ext cx="4149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·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七年级下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标题 1"/>
          <p:cNvSpPr/>
          <p:nvPr/>
        </p:nvSpPr>
        <p:spPr>
          <a:xfrm>
            <a:off x="1025640" y="3273480"/>
            <a:ext cx="4149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2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太空一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9"/>
          <p:cNvSpPr/>
          <p:nvPr/>
        </p:nvSpPr>
        <p:spPr>
          <a:xfrm>
            <a:off x="1025640" y="4016520"/>
            <a:ext cx="414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968400" y="990720"/>
            <a:ext cx="66088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炽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轮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模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严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耐人寻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惊心动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694680" y="10778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形容温度极高；极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4416120" y="1700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构成图形或物体的外缘的线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973600" y="2276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模仿；仿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792880" y="28782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严密谨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583160" y="3473280"/>
            <a:ext cx="159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意味深长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值得人仔细体会琢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2671920" y="4046400"/>
            <a:ext cx="53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形容使人十分惊骇紧张到极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0"/>
          <p:cNvGrpSpPr/>
          <p:nvPr/>
        </p:nvGrpSpPr>
        <p:grpSpPr>
          <a:xfrm>
            <a:off x="79200" y="119160"/>
            <a:ext cx="3036960" cy="753840"/>
            <a:chOff x="79200" y="119160"/>
            <a:chExt cx="3036960" cy="753840"/>
          </a:xfrm>
        </p:grpSpPr>
        <p:sp>
          <p:nvSpPr>
            <p:cNvPr id="119" name="圆角矩形 2"/>
            <p:cNvSpPr/>
            <p:nvPr/>
          </p:nvSpPr>
          <p:spPr>
            <a:xfrm>
              <a:off x="1058760" y="248760"/>
              <a:ext cx="2057400" cy="513360"/>
            </a:xfrm>
            <a:prstGeom prst="roundRect">
              <a:avLst>
                <a:gd name="adj" fmla="val 6394"/>
              </a:avLst>
            </a:prstGeom>
            <a:solidFill>
              <a:srgbClr val="ffff99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8000"/>
                  </a:solidFill>
                  <a:latin typeface="Franklin Gothic Medium"/>
                  <a:ea typeface="黑体"/>
                </a:rPr>
                <a:t>词语解释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图片 4" descr=""/>
            <p:cNvPicPr/>
            <p:nvPr/>
          </p:nvPicPr>
          <p:blipFill>
            <a:blip r:embed="rId1"/>
            <a:stretch/>
          </p:blipFill>
          <p:spPr>
            <a:xfrm>
              <a:off x="79200" y="119160"/>
              <a:ext cx="1066680" cy="753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3"/>
          <p:cNvSpPr/>
          <p:nvPr/>
        </p:nvSpPr>
        <p:spPr>
          <a:xfrm>
            <a:off x="509760" y="2089080"/>
            <a:ext cx="8148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篇由中国首位航天员杨利伟耗时两年亲笔写成的自传（节选），描写了他首次乘坐我国自己研制的载人航天飞船“神舟五号”飞入太空的情景，首度揭示了中国人飞天梦背后生死时速的秘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0"/>
          <p:cNvGrpSpPr/>
          <p:nvPr/>
        </p:nvGrpSpPr>
        <p:grpSpPr>
          <a:xfrm>
            <a:off x="79200" y="119160"/>
            <a:ext cx="3036960" cy="753840"/>
            <a:chOff x="79200" y="119160"/>
            <a:chExt cx="3036960" cy="753840"/>
          </a:xfrm>
        </p:grpSpPr>
        <p:sp>
          <p:nvSpPr>
            <p:cNvPr id="123" name="圆角矩形 2"/>
            <p:cNvSpPr/>
            <p:nvPr/>
          </p:nvSpPr>
          <p:spPr>
            <a:xfrm>
              <a:off x="1058760" y="248760"/>
              <a:ext cx="2057400" cy="513360"/>
            </a:xfrm>
            <a:prstGeom prst="roundRect">
              <a:avLst>
                <a:gd name="adj" fmla="val 6394"/>
              </a:avLst>
            </a:prstGeom>
            <a:solidFill>
              <a:srgbClr val="ffff99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8000"/>
                  </a:solidFill>
                  <a:latin typeface="Franklin Gothic Medium"/>
                  <a:ea typeface="黑体"/>
                </a:rPr>
                <a:t>整体感知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图片 4" descr=""/>
            <p:cNvPicPr/>
            <p:nvPr/>
          </p:nvPicPr>
          <p:blipFill>
            <a:blip r:embed="rId1"/>
            <a:stretch/>
          </p:blipFill>
          <p:spPr>
            <a:xfrm>
              <a:off x="79200" y="119160"/>
              <a:ext cx="1066680" cy="753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Picture 13" descr="图片3"/>
          <p:cNvPicPr/>
          <p:nvPr/>
        </p:nvPicPr>
        <p:blipFill>
          <a:blip r:embed="rId2"/>
          <a:stretch/>
        </p:blipFill>
        <p:spPr>
          <a:xfrm>
            <a:off x="6291360" y="249120"/>
            <a:ext cx="1066680" cy="7462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509760" y="923760"/>
            <a:ext cx="81486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快速浏览课文。注意借助各部分的小标题，把握文章的主要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7"/>
          <p:cNvSpPr/>
          <p:nvPr/>
        </p:nvSpPr>
        <p:spPr>
          <a:xfrm>
            <a:off x="477720" y="1096920"/>
            <a:ext cx="82026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太空一日，充满紧张和意外。阅读课文，找找看，杨利伟遇到了哪些意外情况？他相应地又有怎样的心理活动或举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0"/>
          <p:cNvGrpSpPr/>
          <p:nvPr/>
        </p:nvGrpSpPr>
        <p:grpSpPr>
          <a:xfrm>
            <a:off x="79200" y="119160"/>
            <a:ext cx="3036960" cy="753840"/>
            <a:chOff x="79200" y="119160"/>
            <a:chExt cx="3036960" cy="753840"/>
          </a:xfrm>
        </p:grpSpPr>
        <p:sp>
          <p:nvSpPr>
            <p:cNvPr id="129" name="圆角矩形 2"/>
            <p:cNvSpPr/>
            <p:nvPr/>
          </p:nvSpPr>
          <p:spPr>
            <a:xfrm>
              <a:off x="1058760" y="248760"/>
              <a:ext cx="2057400" cy="513360"/>
            </a:xfrm>
            <a:prstGeom prst="roundRect">
              <a:avLst>
                <a:gd name="adj" fmla="val 6394"/>
              </a:avLst>
            </a:prstGeom>
            <a:solidFill>
              <a:srgbClr val="ffff99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8000"/>
                  </a:solidFill>
                  <a:latin typeface="Franklin Gothic Medium"/>
                  <a:ea typeface="黑体"/>
                </a:rPr>
                <a:t>细读感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图片 4" descr=""/>
            <p:cNvPicPr/>
            <p:nvPr/>
          </p:nvPicPr>
          <p:blipFill>
            <a:blip r:embed="rId1"/>
            <a:stretch/>
          </p:blipFill>
          <p:spPr>
            <a:xfrm>
              <a:off x="79200" y="119160"/>
              <a:ext cx="1066680" cy="753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1" name="Picture 7" descr="http://img06.tooopen.com/images/20161124/tooopen_sy_187718884425.jpg"/>
          <p:cNvPicPr/>
          <p:nvPr/>
        </p:nvPicPr>
        <p:blipFill>
          <a:blip r:embed="rId2"/>
          <a:stretch/>
        </p:blipFill>
        <p:spPr>
          <a:xfrm>
            <a:off x="3425760" y="2286000"/>
            <a:ext cx="3919680" cy="233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490680" y="611280"/>
          <a:ext cx="7858080" cy="3962160"/>
        </p:xfrm>
        <a:graphic>
          <a:graphicData uri="http://schemas.openxmlformats.org/drawingml/2006/table">
            <a:tbl>
              <a:tblPr/>
              <a:tblGrid>
                <a:gridCol w="3047760"/>
                <a:gridCol w="2735280"/>
                <a:gridCol w="2075040"/>
              </a:tblGrid>
              <a:tr h="489960"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意外情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心理活动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举动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825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825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45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133" name="矩形 2"/>
          <p:cNvSpPr/>
          <p:nvPr/>
        </p:nvSpPr>
        <p:spPr>
          <a:xfrm>
            <a:off x="674640" y="1081080"/>
            <a:ext cx="268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火箭和飞船急剧抖动，产生共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"/>
          <p:cNvSpPr/>
          <p:nvPr/>
        </p:nvSpPr>
        <p:spPr>
          <a:xfrm>
            <a:off x="4700160" y="1263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痛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4"/>
          <p:cNvSpPr/>
          <p:nvPr/>
        </p:nvSpPr>
        <p:spPr>
          <a:xfrm>
            <a:off x="674640" y="191772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失重状态下“本末倒置”的错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5"/>
          <p:cNvSpPr/>
          <p:nvPr/>
        </p:nvSpPr>
        <p:spPr>
          <a:xfrm>
            <a:off x="4425840" y="2101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靠意志克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/>
          <p:cNvSpPr/>
          <p:nvPr/>
        </p:nvSpPr>
        <p:spPr>
          <a:xfrm>
            <a:off x="6692040" y="2101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眼睛闭着猛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7"/>
          <p:cNvSpPr/>
          <p:nvPr/>
        </p:nvSpPr>
        <p:spPr>
          <a:xfrm>
            <a:off x="1222200" y="27338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听到神秘敲击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8"/>
          <p:cNvSpPr/>
          <p:nvPr/>
        </p:nvSpPr>
        <p:spPr>
          <a:xfrm>
            <a:off x="4577760" y="27338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别害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9"/>
          <p:cNvSpPr/>
          <p:nvPr/>
        </p:nvSpPr>
        <p:spPr>
          <a:xfrm>
            <a:off x="6733080" y="274320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趴 听 看 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0"/>
          <p:cNvSpPr/>
          <p:nvPr/>
        </p:nvSpPr>
        <p:spPr>
          <a:xfrm>
            <a:off x="1495080" y="3206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过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1"/>
          <p:cNvSpPr/>
          <p:nvPr/>
        </p:nvSpPr>
        <p:spPr>
          <a:xfrm>
            <a:off x="4457160" y="3195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没有紧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2"/>
          <p:cNvSpPr/>
          <p:nvPr/>
        </p:nvSpPr>
        <p:spPr>
          <a:xfrm>
            <a:off x="1208520" y="3659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舷窗玻璃出现裂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3"/>
          <p:cNvSpPr/>
          <p:nvPr/>
        </p:nvSpPr>
        <p:spPr>
          <a:xfrm>
            <a:off x="4460040" y="3625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紧张惊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4"/>
          <p:cNvSpPr/>
          <p:nvPr/>
        </p:nvSpPr>
        <p:spPr>
          <a:xfrm>
            <a:off x="1147320" y="4121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抛伞时飞船剧烈晃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5"/>
          <p:cNvSpPr/>
          <p:nvPr/>
        </p:nvSpPr>
        <p:spPr>
          <a:xfrm>
            <a:off x="4109760" y="41133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不用紧张，很正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6"/>
          <p:cNvSpPr/>
          <p:nvPr/>
        </p:nvSpPr>
        <p:spPr>
          <a:xfrm>
            <a:off x="6941880" y="410544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拽 按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7"/>
          <p:cNvSpPr/>
          <p:nvPr/>
        </p:nvSpPr>
        <p:spPr>
          <a:xfrm>
            <a:off x="6459480" y="1108080"/>
            <a:ext cx="169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谨慎操作，顽强顶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611280" y="493560"/>
            <a:ext cx="792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杨利伟在文中说“对航天员最基本的要求是严谨”。试着在文中找一些例子，体会航天员严谨、科学的态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611280" y="3079800"/>
            <a:ext cx="7921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和飞船一起急剧抖动，产生共振，舱体内的航天员非常痛苦，但“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我的头脑还非常清醒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圆角矩形 2"/>
          <p:cNvSpPr/>
          <p:nvPr/>
        </p:nvSpPr>
        <p:spPr>
          <a:xfrm>
            <a:off x="611280" y="2346480"/>
            <a:ext cx="219528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火箭升空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6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1" dur="1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6"/>
          <p:cNvSpPr/>
          <p:nvPr/>
        </p:nvSpPr>
        <p:spPr>
          <a:xfrm>
            <a:off x="611280" y="1349280"/>
            <a:ext cx="7921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可以准确判断地球上各大洲和各个国家的方位”“还看到类似棉絮状的物体从舷窗外飘过”，但是“我没有看到长城”，“还遇到一个至今仍然原因不明的情况，那就是时不时出现敲击声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圆角矩形 2"/>
          <p:cNvSpPr/>
          <p:nvPr/>
        </p:nvSpPr>
        <p:spPr>
          <a:xfrm>
            <a:off x="611280" y="603360"/>
            <a:ext cx="3181320" cy="569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绕地飞行过程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6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03" dur="1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6"/>
          <p:cNvSpPr/>
          <p:nvPr/>
        </p:nvSpPr>
        <p:spPr>
          <a:xfrm>
            <a:off x="611280" y="1119240"/>
            <a:ext cx="7921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右边的舷窗开始出现裂纹”“让我紧张以至惊慌”，抛伞时“飞船晃荡得很厉害，让人不知道是怎么回事”，我“怀抱着操作盒，屏息凝神地等待着配合程序：到哪里该做什么，该发什么指令，判断和操作都必须准确无误”，最终飞船“嗵”的一声落地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圆角矩形 2"/>
          <p:cNvSpPr/>
          <p:nvPr/>
        </p:nvSpPr>
        <p:spPr>
          <a:xfrm>
            <a:off x="611280" y="406440"/>
            <a:ext cx="1717560" cy="571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归途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6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15" dur="1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0"/>
          <p:cNvGrpSpPr/>
          <p:nvPr/>
        </p:nvGrpSpPr>
        <p:grpSpPr>
          <a:xfrm>
            <a:off x="79200" y="119160"/>
            <a:ext cx="3036960" cy="753840"/>
            <a:chOff x="79200" y="119160"/>
            <a:chExt cx="3036960" cy="753840"/>
          </a:xfrm>
        </p:grpSpPr>
        <p:sp>
          <p:nvSpPr>
            <p:cNvPr id="157" name="圆角矩形 2"/>
            <p:cNvSpPr/>
            <p:nvPr/>
          </p:nvSpPr>
          <p:spPr>
            <a:xfrm>
              <a:off x="1058760" y="248760"/>
              <a:ext cx="2057400" cy="513360"/>
            </a:xfrm>
            <a:prstGeom prst="roundRect">
              <a:avLst>
                <a:gd name="adj" fmla="val 6394"/>
              </a:avLst>
            </a:prstGeom>
            <a:solidFill>
              <a:srgbClr val="ffff99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8000"/>
                  </a:solidFill>
                  <a:latin typeface="Franklin Gothic Medium"/>
                  <a:ea typeface="黑体"/>
                </a:rPr>
                <a:t>品味语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图片 4" descr=""/>
            <p:cNvPicPr/>
            <p:nvPr/>
          </p:nvPicPr>
          <p:blipFill>
            <a:blip r:embed="rId1"/>
            <a:stretch/>
          </p:blipFill>
          <p:spPr>
            <a:xfrm>
              <a:off x="79200" y="119160"/>
              <a:ext cx="1066680" cy="753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Text Box 5"/>
          <p:cNvSpPr/>
          <p:nvPr/>
        </p:nvSpPr>
        <p:spPr>
          <a:xfrm>
            <a:off x="378000" y="1071720"/>
            <a:ext cx="835164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当我返回地球观看这段录像时，我激动得说不出任何话来。”猜猜看，杨利伟激动的话语可能是什么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378000" y="690480"/>
            <a:ext cx="835164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杨利伟在太空中俯瞰地球，“但是，我没有看到长城”。请从杨利伟叙述的太空所见中找出相应的依据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5"/>
          <p:cNvSpPr/>
          <p:nvPr/>
        </p:nvSpPr>
        <p:spPr>
          <a:xfrm>
            <a:off x="378000" y="865080"/>
            <a:ext cx="835164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让我紧张以至惊慌的却另有原因。”这里的“另有原因”指的是什么？杨利伟又是如何克服的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10"/>
          <p:cNvGrpSpPr/>
          <p:nvPr/>
        </p:nvGrpSpPr>
        <p:grpSpPr>
          <a:xfrm>
            <a:off x="79200" y="119160"/>
            <a:ext cx="3036960" cy="753840"/>
            <a:chOff x="79200" y="119160"/>
            <a:chExt cx="3036960" cy="753840"/>
          </a:xfrm>
        </p:grpSpPr>
        <p:sp>
          <p:nvSpPr>
            <p:cNvPr id="77" name="圆角矩形 2"/>
            <p:cNvSpPr/>
            <p:nvPr/>
          </p:nvSpPr>
          <p:spPr>
            <a:xfrm>
              <a:off x="1058760" y="248760"/>
              <a:ext cx="2057400" cy="513360"/>
            </a:xfrm>
            <a:prstGeom prst="roundRect">
              <a:avLst>
                <a:gd name="adj" fmla="val 6394"/>
              </a:avLst>
            </a:prstGeom>
            <a:solidFill>
              <a:srgbClr val="ffff99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8000"/>
                  </a:solidFill>
                  <a:latin typeface="Franklin Gothic Medium"/>
                  <a:ea typeface="黑体"/>
                </a:rPr>
                <a:t>新课导入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图片 4" descr=""/>
            <p:cNvPicPr/>
            <p:nvPr/>
          </p:nvPicPr>
          <p:blipFill>
            <a:blip r:embed="rId1"/>
            <a:stretch/>
          </p:blipFill>
          <p:spPr>
            <a:xfrm>
              <a:off x="79200" y="119160"/>
              <a:ext cx="1066680" cy="753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" name="Picture 7" descr="http://pic41.nipic.com/20140514/2531170_215202583000_2.jpg"/>
          <p:cNvPicPr/>
          <p:nvPr/>
        </p:nvPicPr>
        <p:blipFill>
          <a:blip r:embed="rId2"/>
          <a:srcRect l="0" t="0" r="0" b="4532"/>
          <a:stretch/>
        </p:blipFill>
        <p:spPr>
          <a:xfrm>
            <a:off x="722160" y="1192320"/>
            <a:ext cx="3419640" cy="2906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80" name="Picture 6" descr="http://www.wallcoo.com/cartoon/Space_image_space_and_satellite/wallpapers/1600x1200/Space%20Satellite%20CG%20art%20images%20EF07_SI0184.jpg"/>
          <p:cNvPicPr/>
          <p:nvPr/>
        </p:nvPicPr>
        <p:blipFill>
          <a:blip r:embed="rId3"/>
          <a:stretch/>
        </p:blipFill>
        <p:spPr>
          <a:xfrm rot="21364800">
            <a:off x="4424040" y="922320"/>
            <a:ext cx="4352760" cy="326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7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5"/>
          <p:cNvSpPr/>
          <p:nvPr/>
        </p:nvSpPr>
        <p:spPr>
          <a:xfrm>
            <a:off x="378000" y="912960"/>
            <a:ext cx="835164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飞船停住了。此时是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2003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时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23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分。”航天飞行的时间为什么要写得如此准确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378000" y="2187720"/>
            <a:ext cx="835164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照应开头，叙事完整；地球上短暂的一天，太空航行漫长的</a:t>
            </a:r>
            <a:r>
              <a:rPr b="1" lang="en-US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4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圈；幸福的时刻，激动人心的瞬间，必将开启我国太空探险的新纪元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378000" y="873000"/>
            <a:ext cx="835164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在载人飞船上看地球，杨利伟说“我没有看到长城”，似乎是对“航天员在太空唯一能看到的建筑就是长城”这一曾经流传甚广说法的完全否认。你是怎样看待杨利伟的“异类”说法的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378000" y="3030480"/>
            <a:ext cx="835164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杨利伟作为中国太空第一人，具有敢于探索、不怕牺牲的勇气；更难能可贵的是杨利伟作为航天人的另一种勇气</a:t>
            </a:r>
            <a:r>
              <a:rPr b="1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——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实事求是、实话实说、严谨求实的科学态度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0"/>
          <p:cNvGrpSpPr/>
          <p:nvPr/>
        </p:nvGrpSpPr>
        <p:grpSpPr>
          <a:xfrm>
            <a:off x="79200" y="119160"/>
            <a:ext cx="3036960" cy="753840"/>
            <a:chOff x="79200" y="119160"/>
            <a:chExt cx="3036960" cy="753840"/>
          </a:xfrm>
        </p:grpSpPr>
        <p:sp>
          <p:nvSpPr>
            <p:cNvPr id="167" name="圆角矩形 2"/>
            <p:cNvSpPr/>
            <p:nvPr/>
          </p:nvSpPr>
          <p:spPr>
            <a:xfrm>
              <a:off x="1058760" y="248760"/>
              <a:ext cx="2057400" cy="513360"/>
            </a:xfrm>
            <a:prstGeom prst="roundRect">
              <a:avLst>
                <a:gd name="adj" fmla="val 6394"/>
              </a:avLst>
            </a:prstGeom>
            <a:solidFill>
              <a:srgbClr val="ffff99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8000"/>
                  </a:solidFill>
                  <a:latin typeface="Franklin Gothic Medium"/>
                  <a:ea typeface="黑体"/>
                </a:rPr>
                <a:t>互动探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图片 4" descr=""/>
            <p:cNvPicPr/>
            <p:nvPr/>
          </p:nvPicPr>
          <p:blipFill>
            <a:blip r:embed="rId1"/>
            <a:stretch/>
          </p:blipFill>
          <p:spPr>
            <a:xfrm>
              <a:off x="79200" y="119160"/>
              <a:ext cx="1066680" cy="753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341280" y="1085760"/>
            <a:ext cx="850104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在太空中漫游，杨利伟经历了很多神奇的事情。其中，有一件事情非常神秘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——“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我在太空还遇到一个至今仍然原因不明的情况，那就是时不时出现敲击声。”你觉得杨利伟在太空中遇见的“神秘敲击声”有可能是什么呢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29"/>
          <p:cNvSpPr/>
          <p:nvPr/>
        </p:nvSpPr>
        <p:spPr>
          <a:xfrm>
            <a:off x="5257800" y="2028960"/>
            <a:ext cx="25002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俯瞰地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神秘敲击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7"/>
          <p:cNvSpPr/>
          <p:nvPr/>
        </p:nvSpPr>
        <p:spPr>
          <a:xfrm>
            <a:off x="222840" y="2278080"/>
            <a:ext cx="667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太空一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左大括号 8"/>
          <p:cNvSpPr/>
          <p:nvPr/>
        </p:nvSpPr>
        <p:spPr>
          <a:xfrm>
            <a:off x="801720" y="1432080"/>
            <a:ext cx="173160" cy="2273040"/>
          </a:xfrm>
          <a:custGeom>
            <a:avLst/>
            <a:gdLst>
              <a:gd name="textAreaLeft" fmla="*/ 110520 w 173160"/>
              <a:gd name="textAreaRight" fmla="*/ 173520 w 173160"/>
              <a:gd name="textAreaTop" fmla="*/ 4320 h 2273040"/>
              <a:gd name="textAreaBottom" fmla="*/ 2268720 h 2273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"/>
                  <a:pt x="10800" y="137"/>
                </a:cubicBezTo>
                <a:lnTo>
                  <a:pt x="10800" y="10663"/>
                </a:lnTo>
                <a:cubicBezTo>
                  <a:pt x="10800" y="10732"/>
                  <a:pt x="5400" y="10800"/>
                  <a:pt x="0" y="10800"/>
                </a:cubicBezTo>
                <a:cubicBezTo>
                  <a:pt x="5400" y="10800"/>
                  <a:pt x="10800" y="10869"/>
                  <a:pt x="10800" y="10937"/>
                </a:cubicBezTo>
                <a:lnTo>
                  <a:pt x="10800" y="21463"/>
                </a:lnTo>
                <a:cubicBezTo>
                  <a:pt x="10800" y="21532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"/>
          <p:cNvSpPr/>
          <p:nvPr/>
        </p:nvSpPr>
        <p:spPr>
          <a:xfrm>
            <a:off x="879480" y="1284120"/>
            <a:ext cx="24130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整 起飞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8"/>
          <p:cNvSpPr/>
          <p:nvPr/>
        </p:nvSpPr>
        <p:spPr>
          <a:xfrm>
            <a:off x="6769440" y="1092240"/>
            <a:ext cx="223956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惊心动魄的太空飞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严谨科学的工作态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右大括号 17"/>
          <p:cNvSpPr/>
          <p:nvPr/>
        </p:nvSpPr>
        <p:spPr>
          <a:xfrm>
            <a:off x="7736040" y="1457280"/>
            <a:ext cx="188640" cy="2589120"/>
          </a:xfrm>
          <a:custGeom>
            <a:avLst/>
            <a:gdLst>
              <a:gd name="textAreaLeft" fmla="*/ 0 w 188640"/>
              <a:gd name="textAreaRight" fmla="*/ 68040 w 188640"/>
              <a:gd name="textAreaTop" fmla="*/ 4680 h 2589120"/>
              <a:gd name="textAreaBottom" fmla="*/ 2584440 h 258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6"/>
                  <a:pt x="10800" y="131"/>
                </a:cubicBezTo>
                <a:lnTo>
                  <a:pt x="10800" y="10669"/>
                </a:lnTo>
                <a:cubicBezTo>
                  <a:pt x="10800" y="10735"/>
                  <a:pt x="16200" y="10800"/>
                  <a:pt x="21600" y="10800"/>
                </a:cubicBezTo>
                <a:cubicBezTo>
                  <a:pt x="16200" y="10800"/>
                  <a:pt x="10800" y="10866"/>
                  <a:pt x="10800" y="10931"/>
                </a:cubicBezTo>
                <a:lnTo>
                  <a:pt x="10800" y="21469"/>
                </a:lnTo>
                <a:cubicBezTo>
                  <a:pt x="10800" y="21535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0"/>
          <p:cNvGrpSpPr/>
          <p:nvPr/>
        </p:nvGrpSpPr>
        <p:grpSpPr>
          <a:xfrm>
            <a:off x="79200" y="119160"/>
            <a:ext cx="3036960" cy="753840"/>
            <a:chOff x="79200" y="119160"/>
            <a:chExt cx="3036960" cy="753840"/>
          </a:xfrm>
        </p:grpSpPr>
        <p:sp>
          <p:nvSpPr>
            <p:cNvPr id="177" name="圆角矩形 2"/>
            <p:cNvSpPr/>
            <p:nvPr/>
          </p:nvSpPr>
          <p:spPr>
            <a:xfrm>
              <a:off x="1058760" y="248760"/>
              <a:ext cx="2057400" cy="513360"/>
            </a:xfrm>
            <a:prstGeom prst="roundRect">
              <a:avLst>
                <a:gd name="adj" fmla="val 6394"/>
              </a:avLst>
            </a:prstGeom>
            <a:solidFill>
              <a:srgbClr val="ffff99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8000"/>
                  </a:solidFill>
                  <a:latin typeface="Franklin Gothic Medium"/>
                  <a:ea typeface="黑体"/>
                </a:rPr>
                <a:t>板书设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8" name="图片 4" descr=""/>
            <p:cNvPicPr/>
            <p:nvPr/>
          </p:nvPicPr>
          <p:blipFill>
            <a:blip r:embed="rId1"/>
            <a:stretch/>
          </p:blipFill>
          <p:spPr>
            <a:xfrm>
              <a:off x="79200" y="119160"/>
              <a:ext cx="1066680" cy="7538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79" name="直接箭头连接符 5"/>
          <p:cNvCxnSpPr/>
          <p:nvPr/>
        </p:nvCxnSpPr>
        <p:spPr>
          <a:xfrm>
            <a:off x="2671560" y="1873080"/>
            <a:ext cx="1080" cy="53424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0" name="TextBox 16"/>
          <p:cNvSpPr/>
          <p:nvPr/>
        </p:nvSpPr>
        <p:spPr>
          <a:xfrm>
            <a:off x="1030320" y="2406600"/>
            <a:ext cx="226224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来   运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直接箭头连接符 19"/>
          <p:cNvCxnSpPr/>
          <p:nvPr/>
        </p:nvCxnSpPr>
        <p:spPr>
          <a:xfrm>
            <a:off x="2679480" y="2945880"/>
            <a:ext cx="1080" cy="3117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2" name="TextBox 20"/>
          <p:cNvSpPr/>
          <p:nvPr/>
        </p:nvSpPr>
        <p:spPr>
          <a:xfrm>
            <a:off x="879480" y="3308400"/>
            <a:ext cx="250020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着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1"/>
          <p:cNvSpPr/>
          <p:nvPr/>
        </p:nvSpPr>
        <p:spPr>
          <a:xfrm>
            <a:off x="3076560" y="1316160"/>
            <a:ext cx="24415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飞船：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振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剧抖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直接箭头连接符 22"/>
          <p:cNvCxnSpPr/>
          <p:nvPr/>
        </p:nvCxnSpPr>
        <p:spPr>
          <a:xfrm>
            <a:off x="4382640" y="2171520"/>
            <a:ext cx="1080" cy="3099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85" name="TextBox 23"/>
          <p:cNvSpPr/>
          <p:nvPr/>
        </p:nvSpPr>
        <p:spPr>
          <a:xfrm>
            <a:off x="3575160" y="2406600"/>
            <a:ext cx="17920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飞行速度快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4"/>
          <p:cNvSpPr/>
          <p:nvPr/>
        </p:nvSpPr>
        <p:spPr>
          <a:xfrm>
            <a:off x="3602160" y="3308400"/>
            <a:ext cx="16779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裂缝 晃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直接箭头连接符 25"/>
          <p:cNvCxnSpPr/>
          <p:nvPr/>
        </p:nvCxnSpPr>
        <p:spPr>
          <a:xfrm>
            <a:off x="4382640" y="2945880"/>
            <a:ext cx="1080" cy="3117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8" name="直接箭头连接符 26"/>
          <p:cNvCxnSpPr/>
          <p:nvPr/>
        </p:nvCxnSpPr>
        <p:spPr>
          <a:xfrm>
            <a:off x="6571800" y="1781280"/>
            <a:ext cx="1080" cy="3103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89" name="直接箭头连接符 27"/>
          <p:cNvCxnSpPr/>
          <p:nvPr/>
        </p:nvCxnSpPr>
        <p:spPr>
          <a:xfrm>
            <a:off x="6581520" y="2945880"/>
            <a:ext cx="1080" cy="3117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90" name="TextBox 28"/>
          <p:cNvSpPr/>
          <p:nvPr/>
        </p:nvSpPr>
        <p:spPr>
          <a:xfrm>
            <a:off x="5210280" y="1316160"/>
            <a:ext cx="272232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航天员：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痛苦 难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30"/>
          <p:cNvSpPr/>
          <p:nvPr/>
        </p:nvSpPr>
        <p:spPr>
          <a:xfrm>
            <a:off x="5600880" y="3219480"/>
            <a:ext cx="23238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紧张 惊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恐惧 应付自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442800" y="905040"/>
            <a:ext cx="8282160" cy="22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ff"/>
                </a:solidFill>
                <a:latin typeface="黑体"/>
                <a:ea typeface="黑体"/>
              </a:rPr>
              <a:t>“</a:t>
            </a:r>
            <a:r>
              <a:rPr b="1" lang="zh-CN" sz="2600" spc="-1" strike="noStrike">
                <a:solidFill>
                  <a:srgbClr val="ff00ff"/>
                </a:solidFill>
                <a:latin typeface="黑体"/>
                <a:ea typeface="黑体"/>
              </a:rPr>
              <a:t>神舟”后浪推前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杨利伟乘坐“神舟”五号飞船返回后反映，“神舟”飞船乘坐非常舒适，感觉很满意。但是有两个小的技术细节需要改进：一是返回舱舷窗的位置让他在观察时感到别扭；二是飞船上用来收集杂物的袋子，地面上感觉用拉链比较方便，太空中的实际感受却是用绳系口的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0"/>
          <p:cNvGrpSpPr/>
          <p:nvPr/>
        </p:nvGrpSpPr>
        <p:grpSpPr>
          <a:xfrm>
            <a:off x="79200" y="119160"/>
            <a:ext cx="3036960" cy="753840"/>
            <a:chOff x="79200" y="119160"/>
            <a:chExt cx="3036960" cy="753840"/>
          </a:xfrm>
        </p:grpSpPr>
        <p:sp>
          <p:nvSpPr>
            <p:cNvPr id="194" name="圆角矩形 2"/>
            <p:cNvSpPr/>
            <p:nvPr/>
          </p:nvSpPr>
          <p:spPr>
            <a:xfrm>
              <a:off x="1058760" y="248760"/>
              <a:ext cx="2057400" cy="513360"/>
            </a:xfrm>
            <a:prstGeom prst="roundRect">
              <a:avLst>
                <a:gd name="adj" fmla="val 6394"/>
              </a:avLst>
            </a:prstGeom>
            <a:solidFill>
              <a:srgbClr val="ffff99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8000"/>
                  </a:solidFill>
                  <a:latin typeface="Franklin Gothic Medium"/>
                  <a:ea typeface="黑体"/>
                </a:rPr>
                <a:t>拓展延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图片 4" descr=""/>
            <p:cNvPicPr/>
            <p:nvPr/>
          </p:nvPicPr>
          <p:blipFill>
            <a:blip r:embed="rId1"/>
            <a:stretch/>
          </p:blipFill>
          <p:spPr>
            <a:xfrm>
              <a:off x="79200" y="119160"/>
              <a:ext cx="1066680" cy="753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3"/>
          <p:cNvSpPr/>
          <p:nvPr/>
        </p:nvSpPr>
        <p:spPr>
          <a:xfrm>
            <a:off x="569880" y="1198440"/>
            <a:ext cx="82821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式更方便。针对杨利伟提出的意见，在“神舟”六号设计建造过程中，飞船工程师反复亲身体会，调整了航天员座椅与舷窗的相对位置。重新生产的用来收集零散物品的袋子，封口处也都尽量改成了尼龙搭扣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http://pic62.nipic.com/file/20150322/2531170_181448538000_2.jpg"/>
          <p:cNvPicPr/>
          <p:nvPr/>
        </p:nvPicPr>
        <p:blipFill>
          <a:blip r:embed="rId1"/>
          <a:srcRect l="0" t="0" r="0" b="3895"/>
          <a:stretch/>
        </p:blipFill>
        <p:spPr>
          <a:xfrm>
            <a:off x="768240" y="711360"/>
            <a:ext cx="3521160" cy="3612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http://img01.taopic.com/150329/240422-15032Z9205942.jpg"/>
          <p:cNvPicPr/>
          <p:nvPr/>
        </p:nvPicPr>
        <p:blipFill>
          <a:blip r:embed="rId2"/>
          <a:stretch/>
        </p:blipFill>
        <p:spPr>
          <a:xfrm>
            <a:off x="4440240" y="1170000"/>
            <a:ext cx="40402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482760" y="1074600"/>
            <a:ext cx="8424720" cy="17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用各种媒介获得有关“神舟五号”太空飞行的资讯，了解本文的背景。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重点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速浏览课文，把握文章的主要内容，领会运用心理描写塑造人物、表现人物性格的方法。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难点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航天勇士尊重科学、坚韧严谨的探索精神，激发热爱科学、勇于追求理想的奋斗精神。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重点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0"/>
          <p:cNvGrpSpPr/>
          <p:nvPr/>
        </p:nvGrpSpPr>
        <p:grpSpPr>
          <a:xfrm>
            <a:off x="79200" y="119160"/>
            <a:ext cx="3036960" cy="753840"/>
            <a:chOff x="79200" y="119160"/>
            <a:chExt cx="3036960" cy="753840"/>
          </a:xfrm>
        </p:grpSpPr>
        <p:sp>
          <p:nvSpPr>
            <p:cNvPr id="85" name="圆角矩形 2"/>
            <p:cNvSpPr/>
            <p:nvPr/>
          </p:nvSpPr>
          <p:spPr>
            <a:xfrm>
              <a:off x="1058760" y="248760"/>
              <a:ext cx="2057400" cy="513360"/>
            </a:xfrm>
            <a:prstGeom prst="roundRect">
              <a:avLst>
                <a:gd name="adj" fmla="val 6394"/>
              </a:avLst>
            </a:prstGeom>
            <a:solidFill>
              <a:srgbClr val="ffff99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8000"/>
                  </a:solidFill>
                  <a:latin typeface="Franklin Gothic Medium"/>
                  <a:ea typeface="黑体"/>
                </a:rPr>
                <a:t>学习目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图片 4" descr=""/>
            <p:cNvPicPr/>
            <p:nvPr/>
          </p:nvPicPr>
          <p:blipFill>
            <a:blip r:embed="rId1"/>
            <a:stretch/>
          </p:blipFill>
          <p:spPr>
            <a:xfrm>
              <a:off x="79200" y="119160"/>
              <a:ext cx="1066680" cy="753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7"/>
          <p:cNvSpPr/>
          <p:nvPr/>
        </p:nvSpPr>
        <p:spPr>
          <a:xfrm>
            <a:off x="549360" y="1393920"/>
            <a:ext cx="58276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杨利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6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出生，辽宁省葫芦岛市绥中县人，大学文化程度，中国共产党党员，中国人民解放军少将军衔，特级航天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10"/>
          <p:cNvGrpSpPr/>
          <p:nvPr/>
        </p:nvGrpSpPr>
        <p:grpSpPr>
          <a:xfrm>
            <a:off x="79200" y="119160"/>
            <a:ext cx="3036960" cy="753840"/>
            <a:chOff x="79200" y="119160"/>
            <a:chExt cx="3036960" cy="753840"/>
          </a:xfrm>
        </p:grpSpPr>
        <p:sp>
          <p:nvSpPr>
            <p:cNvPr id="89" name="圆角矩形 2"/>
            <p:cNvSpPr/>
            <p:nvPr/>
          </p:nvSpPr>
          <p:spPr>
            <a:xfrm>
              <a:off x="1058760" y="248760"/>
              <a:ext cx="2057400" cy="513360"/>
            </a:xfrm>
            <a:prstGeom prst="roundRect">
              <a:avLst>
                <a:gd name="adj" fmla="val 6394"/>
              </a:avLst>
            </a:prstGeom>
            <a:solidFill>
              <a:srgbClr val="ffff99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8000"/>
                  </a:solidFill>
                  <a:latin typeface="Franklin Gothic Medium"/>
                  <a:ea typeface="黑体"/>
                </a:rPr>
                <a:t>作者简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图片 4" descr=""/>
            <p:cNvPicPr/>
            <p:nvPr/>
          </p:nvPicPr>
          <p:blipFill>
            <a:blip r:embed="rId1"/>
            <a:stretch/>
          </p:blipFill>
          <p:spPr>
            <a:xfrm>
              <a:off x="79200" y="119160"/>
              <a:ext cx="1066680" cy="753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Picture 8" descr="http://imgsrc.baidu.com/baike/pic/item/30adcbef76094b3625f8c7dba0cc7cd98d109d9a.jpg"/>
          <p:cNvPicPr/>
          <p:nvPr/>
        </p:nvPicPr>
        <p:blipFill>
          <a:blip r:embed="rId2"/>
          <a:stretch/>
        </p:blipFill>
        <p:spPr>
          <a:xfrm>
            <a:off x="6284880" y="1146240"/>
            <a:ext cx="2182680" cy="28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7"/>
          <p:cNvSpPr/>
          <p:nvPr/>
        </p:nvSpPr>
        <p:spPr>
          <a:xfrm>
            <a:off x="501480" y="851040"/>
            <a:ext cx="8253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历任中国航天员科研训练中心副主任，载人航天工程航天员系统副总指挥，现任中国载人航天工程办公室副主任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0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北京时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，杨利伟乘由“长征二号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火箭运载的神舟五号飞船首次进入太空，象征着中国太空事业向前迈进一大步，起到了里程碑的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0"/>
          <p:cNvGrpSpPr/>
          <p:nvPr/>
        </p:nvGrpSpPr>
        <p:grpSpPr>
          <a:xfrm>
            <a:off x="79200" y="119160"/>
            <a:ext cx="3036960" cy="753840"/>
            <a:chOff x="79200" y="119160"/>
            <a:chExt cx="3036960" cy="753840"/>
          </a:xfrm>
        </p:grpSpPr>
        <p:sp>
          <p:nvSpPr>
            <p:cNvPr id="94" name="圆角矩形 2"/>
            <p:cNvSpPr/>
            <p:nvPr/>
          </p:nvSpPr>
          <p:spPr>
            <a:xfrm>
              <a:off x="1058760" y="248760"/>
              <a:ext cx="2057400" cy="513360"/>
            </a:xfrm>
            <a:prstGeom prst="roundRect">
              <a:avLst>
                <a:gd name="adj" fmla="val 6394"/>
              </a:avLst>
            </a:prstGeom>
            <a:solidFill>
              <a:srgbClr val="ffff99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8000"/>
                  </a:solidFill>
                  <a:latin typeface="Franklin Gothic Medium"/>
                  <a:ea typeface="黑体"/>
                </a:rPr>
                <a:t>背景链接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图片 4" descr=""/>
            <p:cNvPicPr/>
            <p:nvPr/>
          </p:nvPicPr>
          <p:blipFill>
            <a:blip r:embed="rId1"/>
            <a:stretch/>
          </p:blipFill>
          <p:spPr>
            <a:xfrm>
              <a:off x="79200" y="119160"/>
              <a:ext cx="1066680" cy="753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Text Box 17"/>
          <p:cNvSpPr/>
          <p:nvPr/>
        </p:nvSpPr>
        <p:spPr>
          <a:xfrm>
            <a:off x="436680" y="873000"/>
            <a:ext cx="828648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2003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时，我国“神舟五号”载入飞船在酒泉卫星发射中心成功发射，把中国第一位航天员杨利伟送入太空。飞船绕地球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圈后，于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时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23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分安全降落在内蒙古主着陆场。这次成功的发射实现了中华民族千年的飞天梦想，标志着中国成为世界上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第三个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能够独立开展载人航天活动的国家，为进一步的空间科学研究奠定了坚实的基础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7"/>
          <p:cNvSpPr/>
          <p:nvPr/>
        </p:nvSpPr>
        <p:spPr>
          <a:xfrm>
            <a:off x="507960" y="914400"/>
            <a:ext cx="828684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杨利伟耗时两年写成的自传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天地九重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，由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万字和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150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幅珍贵图片组成。作者以坦率而真挚的方式，讲述了自己的成长，回顾了一个小城少年如何成为军人、成为一名优秀的战斗机飞行员，如何通过艰难的、接近完美的训练，终于成就了自己见证和创造奇迹的人生。课文便节选自杨利伟的自传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天地九重</a:t>
            </a:r>
            <a:r>
              <a:rPr b="1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10"/>
          <p:cNvGrpSpPr/>
          <p:nvPr/>
        </p:nvGrpSpPr>
        <p:grpSpPr>
          <a:xfrm>
            <a:off x="79200" y="119160"/>
            <a:ext cx="3036960" cy="753840"/>
            <a:chOff x="79200" y="119160"/>
            <a:chExt cx="3036960" cy="753840"/>
          </a:xfrm>
        </p:grpSpPr>
        <p:sp>
          <p:nvSpPr>
            <p:cNvPr id="99" name="圆角矩形 2"/>
            <p:cNvSpPr/>
            <p:nvPr/>
          </p:nvSpPr>
          <p:spPr>
            <a:xfrm>
              <a:off x="1058760" y="248760"/>
              <a:ext cx="2057400" cy="513360"/>
            </a:xfrm>
            <a:prstGeom prst="roundRect">
              <a:avLst>
                <a:gd name="adj" fmla="val 6394"/>
              </a:avLst>
            </a:prstGeom>
            <a:solidFill>
              <a:srgbClr val="ffff99"/>
            </a:solidFill>
            <a:ln w="28440">
              <a:solidFill>
                <a:srgbClr val="40404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8000"/>
                  </a:solidFill>
                  <a:latin typeface="Franklin Gothic Medium"/>
                  <a:ea typeface="黑体"/>
                </a:rPr>
                <a:t>字词注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图片 4" descr=""/>
            <p:cNvPicPr/>
            <p:nvPr/>
          </p:nvPicPr>
          <p:blipFill>
            <a:blip r:embed="rId1"/>
            <a:stretch/>
          </p:blipFill>
          <p:spPr>
            <a:xfrm>
              <a:off x="79200" y="119160"/>
              <a:ext cx="1066680" cy="753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TextBox 14"/>
          <p:cNvSpPr/>
          <p:nvPr/>
        </p:nvSpPr>
        <p:spPr>
          <a:xfrm>
            <a:off x="536400" y="1390680"/>
            <a:ext cx="81378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形（    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（    ）   轮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游（    ）   严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   ）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（    ）   烧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    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千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负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5"/>
          <p:cNvSpPr/>
          <p:nvPr/>
        </p:nvSpPr>
        <p:spPr>
          <a:xfrm>
            <a:off x="1736280" y="1487520"/>
            <a:ext cx="64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宋体"/>
              </a:rPr>
              <a:t>h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6"/>
          <p:cNvSpPr/>
          <p:nvPr/>
        </p:nvSpPr>
        <p:spPr>
          <a:xfrm>
            <a:off x="4412520" y="1473120"/>
            <a:ext cx="7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宋体"/>
              </a:rPr>
              <a:t>ch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7"/>
          <p:cNvSpPr/>
          <p:nvPr/>
        </p:nvSpPr>
        <p:spPr>
          <a:xfrm>
            <a:off x="7017480" y="14828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宋体"/>
              </a:rPr>
              <a:t>ku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8"/>
          <p:cNvSpPr/>
          <p:nvPr/>
        </p:nvSpPr>
        <p:spPr>
          <a:xfrm>
            <a:off x="1753920" y="211608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宋体"/>
              </a:rPr>
              <a:t>á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9"/>
          <p:cNvSpPr/>
          <p:nvPr/>
        </p:nvSpPr>
        <p:spPr>
          <a:xfrm>
            <a:off x="6908760" y="211608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宋体"/>
              </a:rPr>
              <a:t>chó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0"/>
          <p:cNvSpPr/>
          <p:nvPr/>
        </p:nvSpPr>
        <p:spPr>
          <a:xfrm>
            <a:off x="4433760" y="2124000"/>
            <a:ext cx="6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宋体"/>
              </a:rPr>
              <a:t>jǐ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1"/>
          <p:cNvSpPr/>
          <p:nvPr/>
        </p:nvSpPr>
        <p:spPr>
          <a:xfrm>
            <a:off x="4222440" y="2763720"/>
            <a:ext cx="10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宋体"/>
              </a:rPr>
              <a:t>zhu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2"/>
          <p:cNvSpPr/>
          <p:nvPr/>
        </p:nvSpPr>
        <p:spPr>
          <a:xfrm>
            <a:off x="1528200" y="2749680"/>
            <a:ext cx="105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宋体"/>
              </a:rPr>
              <a:t>shù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3"/>
          <p:cNvSpPr/>
          <p:nvPr/>
        </p:nvSpPr>
        <p:spPr>
          <a:xfrm>
            <a:off x="7741800" y="27478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宋体"/>
              </a:rPr>
              <a:t>j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07:05:12Z</dcterms:created>
  <dc:creator>User</dc:creator>
  <dc:description/>
  <dc:language>en-US</dc:language>
  <cp:lastModifiedBy>Administrator</cp:lastModifiedBy>
  <dcterms:modified xsi:type="dcterms:W3CDTF">2017-05-31T12:00:34Z</dcterms:modified>
  <cp:revision>135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